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207-8C7A-4D99-A620-188EFA36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C19-D822-4AF8-A8F3-2999C74C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272-2D3A-4926-9A67-25411E1C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FD8-8654-416A-800E-B3ED4074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D25-2135-4D47-9652-70128BA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397-B4D1-466F-AF16-9461274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FF5-0174-4845-999E-95D3CBE9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79E-4643-468A-B065-CBA55A96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36D-A685-4E01-8167-09A0DC5F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C43-2325-4E23-97F7-80E89CA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7E5-6103-484B-8780-4EEF508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CD6-EEFB-4D77-AE62-9129CCB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1097-C002-480F-80A6-39E80E48C66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EX 6759 Transition Planning and Interdisciplinary Teaming for Students with Disabilities – Summer 2009</a:t>
            </a:r>
            <a:br>
              <a:rPr sz="32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ly 9, 2011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ocial Skills Programming for Tran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rgeted Scripts (Visual Scrip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examples of phrases or sentences developed for students to utilize for the purpose of social engagements across a variety of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201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Getting Bumped in the Hall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getting bumped into, determine the situation at hand without commenting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ry dude.  Are you O.K.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O.K., thanks for asking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roblem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ach peer goes his own 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umping into in Hallway 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getting bumped into, determine the situation at hand without commen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(No one stops/apologiz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bumped into me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(getting in personal space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 *!@# are you looking at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 (Ignore and walks to next dest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reme Hallway Bumping Into Exampl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getting bumped into, determine the situation at hand without commen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(TI and peer are not paying attention and bump into one ano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your *#$%ing problem man?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 (puts hands up in a defensive position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y calm down man, it was just an accident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(up in TI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face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as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ident!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 (puts hands up in defensive position again)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rry man, I do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want any trouble.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(Walk away as quickly as possi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Making a refusal – cutting in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Hey, how about letting me cut in here?  Then we can sit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Target Kid (TK)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No, I don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 think so.  It wouldn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 be fair to the other kids who are waiting (then igno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Aw, c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mon! Who cares?! Lemme cut in line 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bel Bk BT"/>
              </a:rPr>
              <a:t>TK: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No, I don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 think it would be right – please stop asking me about this (then ign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Ending a Convers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120" y="914400"/>
            <a:ext cx="7696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bel Bk BT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: Well, it was nice speaking with you, but I really have to go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bel Bk BT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: I really enjoyed speaking with you.  I</a:t>
            </a: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ve got to go now.  Maybe we can talk again so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bel Bk BT"/>
              </a:rPr>
              <a:t>TK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: OK, I</a:t>
            </a: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ll see you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**Have your student identify their </a:t>
            </a:r>
            <a:r>
              <a:rPr b="1" i="1" lang="ja-JP" sz="20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sign off</a:t>
            </a:r>
            <a:r>
              <a:rPr b="1" i="1" lang="ja-JP" sz="20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 – teach directly to t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404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Executive Functioning Skills Difficu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Interpretation and recognition of emotional state of others/social c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Presentation of relevant information in a timely fash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Self-Monitoring for the purpose of social appropriateness and for the prevention of offending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Impulse control (commenting, limited interest areas, topic shifting, TM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Flexibility as it relates to social sit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Ability to </a:t>
            </a:r>
            <a:r>
              <a:rPr b="0" lang="ja-JP" sz="22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read</a:t>
            </a:r>
            <a:r>
              <a:rPr b="0" lang="ja-JP" sz="22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 social sit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abel Bk BT"/>
              </a:rPr>
              <a:t>Theory of Mind (TOM)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 Executive Functio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Instruction over recognition of specific emo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Prompted sequence for dealing with chronic difficult inappropriate social behav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Disclosure review – how much is too much (TMI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Designation of appropriate peers or adults who are permitted to exchange detailed/personal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Procedure for dealing with various types of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aking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tape of some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ing a targ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 –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tape is t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n to the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 student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prompt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behavior</a:t>
            </a:r>
            <a:r>
              <a:rPr b="0" lang="en-US" sz="3200" spc="-1" strike="noStrike">
                <a:solidFill>
                  <a:srgbClr val="0099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hy Use V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Learners (learning style &amp; motiv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attention to relevant materials (detai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s intervention (instructional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staff with meaningful permanent products (outcome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n opportunity for peer interactions with neuro-typical peers and inter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Definitions of Social Skil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520" y="8380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Socially acceptable learned behaviors that enable a person to interact with others in ways that elicit positive responses and assist in avoiding negative respons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Bellini Feb.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Those behaviors which, within a given situation, predict important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McKinnon &amp; Krempa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Kabel Bk BT"/>
              </a:rPr>
              <a:t>Executive Functioning Deficits include</a:t>
            </a: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: forming abstract concepts, having a flexible sequenced plan of action, focusing and sustaining mental effort, rapidly retrieving </a:t>
            </a:r>
            <a:r>
              <a:rPr b="1" i="1" lang="en-US" sz="2000" spc="-1" strike="noStrike">
                <a:solidFill>
                  <a:srgbClr val="000000"/>
                </a:solidFill>
                <a:latin typeface="Kabel Bk BT"/>
              </a:rPr>
              <a:t>relevant</a:t>
            </a: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 information, being able to self-monitor and self-correct in vivo, and being able to inhibit impulsive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abel Bk BT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Liss, Fein, Feinstein, Waterhouse, Alle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Kabel Bk BT"/>
              </a:rPr>
              <a:t>Dunn, Morris, and I. Rapin 20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Documented Benefits of V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49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onstrated promotion of new skill acqui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skills that will enhance present skill level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ability to transfer skills across settings (general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s self 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w to V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 targeted behavior  (rationale) – skill deficits versus performance defic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Baselin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e Parent &amp; School-Based Permission/Con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ypical peer(s) and review rol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pr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 &amp; edit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 with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ather outcome data – did it work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Self Awareness Difficul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motional Regulation – Recog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motional Regulation – Cop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Recognition of Other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 Emo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Peer Perceptions: Cool vs. Not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Bully Tar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ocial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tiquette of E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Self Awareness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Label Body Signals for Emo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Teach Responses to Contextual Situation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Teach How to Provide Appropriate Input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Bullypr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Perspective, perspective,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720B3777.WAV" descr=""/>
          <p:cNvPicPr/>
          <p:nvPr/>
        </p:nvPicPr>
        <p:blipFill>
          <a:blip r:embed="rId1"/>
          <a:stretch/>
        </p:blipFill>
        <p:spPr>
          <a:xfrm>
            <a:off x="6515280" y="2541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419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 Self-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vide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ing that allo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dividual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itate targ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ing him/her sel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d in a targ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w to VSM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5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 targeted behavior  (rationale) – skill deficits versus performance defic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Baselin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e Parent &amp; School-Based Permission/Con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 &amp; Review wit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pr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 &amp; edit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ention with video cl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ather outcome data – did it work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Friendship Cultivation Difficul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1920" y="12189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dequate identification of positive and negative attributes of friend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Levels of friendships/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ppropriate boundaries as they relate to friendships of different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Cultivating friend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Maintaining healthy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Target Skills for Teaching Skills Related to Friendship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Teach students to ID similar likes/dislikes with targeted pe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Practice Telephone ski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Practice joke telling or similar behavior that will maintain appropriate peer attention and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Set-up</a:t>
            </a:r>
            <a:r>
              <a:rPr b="0" lang="ja-JP" sz="24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Kabel Bk BT"/>
              </a:rPr>
              <a:t> opportunities during lunch, elective classes, in-between classes at school, community-based outings, or other times peers would naturally social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Kabel Bk BT"/>
              </a:rPr>
              <a:t>Prescribed Social Skills Intervention Program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791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Identify and assess areas of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Discern between skill acquisition deficits (SAD) and performance deficits (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elect appropriate teaching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Implement instruction/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valuate instruction/strategies (data) &amp; modify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732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Social Exchange Difficul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Gr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Maintaining social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Social 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Perspective 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Non-verbal Communication (reading 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nxiety mainte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Adherence to non-functional rules or rout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Hidden Rules or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 Social Ex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elephone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Recognizing 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Body Language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or c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Modulating voice 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cknowledging and adjusting to changes in topic (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Skills of reciprocity (give and take, turn-taking, appropriate attending, topic maintenance, rules of engage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Popular</a:t>
            </a:r>
            <a:r>
              <a:rPr b="0" lang="ja-JP" sz="2800" spc="-1" strike="noStrike">
                <a:solidFill>
                  <a:srgbClr val="000000"/>
                </a:solidFill>
                <a:latin typeface="Kabel Bk B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52280" y="228600"/>
            <a:ext cx="9524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Effective Intervention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Direct I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Kabel Bk BT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Video Mode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Targeted Scrip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bel Bk BT"/>
              </a:rPr>
              <a:t>General Visual Sup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-Vivo Mode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known as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yin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involv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y of individu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n addition to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studen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ill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ou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skill 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Kabel Bk BT"/>
              </a:rPr>
              <a:t>Conversation Skills Difficul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800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ppropriately initiating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Maintaining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nding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ppropriate times/topics/boundaries of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Nonverbal communication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ngaging in socially balanced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Suggested Target Skill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Kabel Bk BT"/>
              </a:rPr>
              <a:t> Conversation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666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Flexibility (tolerance, patience, issues of disintere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Break down non-verbal communication into zones (face, arms, leg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Teach parts of conversation (greeting, comment, sign-of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Expand conversation skills – use of flow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Appropriate Interrupting and time for conver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el Bk BT"/>
              </a:rPr>
              <a:t>Visual Rules for Convers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8:55:47Z</dcterms:created>
  <dc:creator>LaptopUser</dc:creator>
  <dc:description/>
  <dc:language>en-US</dc:language>
  <cp:lastModifiedBy>Gracejoy Hauser</cp:lastModifiedBy>
  <dcterms:modified xsi:type="dcterms:W3CDTF">2011-07-09T06:38:05Z</dcterms:modified>
  <cp:revision>113</cp:revision>
  <dc:subject/>
  <dc:title>Social Skills Instruction: Practical Strategies for Educ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